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365-547C-449D-ACDD-BB5A5BF6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FCB-12FE-4DD4-AE00-ECDF33B7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091-8FAF-4A9F-892B-B8E51535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DDC-0B60-4986-9847-96F48754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FC31-3D26-4F77-8295-61E64FE8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BE90-D046-431D-9A38-FC2FAD8E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BEB6-E69F-4DA2-8E3C-4F1DC889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6297-0586-4DD8-ACB2-9CEA0555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D04-C4B4-44E9-BE60-D080790D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6DC-327E-47F3-91BE-E16D5B12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0E2F-D214-40C3-B61E-55F8B16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F61-DB96-4803-A278-DE9214B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6CC3-EE42-47D2-A692-BFA720EA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88CF-70C1-4FFD-89BC-361959C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23E3-C12A-405D-8F8D-F119E042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5C21-EE36-497E-84FE-CE4CCAC6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D765-FC02-401F-AF9E-410845B4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DFA-C669-4FF9-A64C-F7C64D95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5E6-B33C-483E-B57E-D9594AD7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620-2327-4C12-A2AB-49C450E9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61F-79E6-4D5B-B513-58B9AC08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476-A443-47E7-82A3-05A05DE4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FA6-6D62-46AB-85FF-4200D5E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69B-9179-4FDB-8AAC-F502CE5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6ED6-5963-40A3-971B-935B86E32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2628-544A-4FCC-AE49-A8DFC4EB4515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arn.co.uk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86950"/>
                </a:solidFill>
                <a:latin typeface="Times New Roman"/>
              </a:rPr>
              <a:t>German Foreign Polic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86950"/>
                </a:solidFill>
                <a:latin typeface="Times New Roman"/>
              </a:rPr>
              <a:t>1933 - 19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410080" y="5943600"/>
            <a:ext cx="344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esentation by Mr 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701028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C:\My Documents\My Webs\Myweb\SchoolHist\images\logosupsm.gif"/>
          <p:cNvPicPr/>
          <p:nvPr/>
        </p:nvPicPr>
        <p:blipFill>
          <a:blip r:embed="rId1"/>
          <a:stretch/>
        </p:blipFill>
        <p:spPr>
          <a:xfrm>
            <a:off x="7010280" y="6248520"/>
            <a:ext cx="190836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 is even weaker than in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aly is now your 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have many supporters in Austria, who can help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on with Austria is forbidden by the Treaty of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http://www.spartacus.schoolnet.co.uk/2WWgerma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124080"/>
            <a:ext cx="2054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3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4495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ree million German speakers live in Czechoslovak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zechoslovakia has a strong army and alliances with Britain, France and the Soviet Un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ictory over the Czechs will finally destroy the Treaty of Versail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army is unwilling to fight over the Sudeten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5053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ttp://www.spartacus.schoolnet.co.uk/2WWappease.JPG"/>
          <p:cNvPicPr/>
          <p:nvPr/>
        </p:nvPicPr>
        <p:blipFill>
          <a:blip r:embed="rId1"/>
          <a:stretch/>
        </p:blipFill>
        <p:spPr>
          <a:xfrm>
            <a:off x="6324480" y="3657600"/>
            <a:ext cx="2133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5" dur="1" fill="hold"/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Czechoslovakia and hope the army follows your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aten the Czechs and make a deal with Britain and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343400" y="1905120"/>
            <a:ext cx="2362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 a deal with Russia and hope Britain and France ignore your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fter victory over the Czechs you can’t do wr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oland splits German land and holds the German city of Danz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oland has an alliance with Britain and Fr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Soviet Union could be a threat, the Red Army could easily help the Po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98612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http://www.spartacus.schoolnet.co.uk/JlowSp.jpg"/>
          <p:cNvPicPr/>
          <p:nvPr/>
        </p:nvPicPr>
        <p:blipFill>
          <a:blip r:embed="rId1"/>
          <a:stretch/>
        </p:blipFill>
        <p:spPr>
          <a:xfrm>
            <a:off x="5562720" y="25146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a Deal with Russia to split Poland betwe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p now, you’ve already achieved most of your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34340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Poland without any agreements no-one can stop you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Add up your scor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an expert in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your job to advise the new leaders of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will be told about various problems and given a choice of three policies to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oose wisely.  Your success will be rewarded.  Failure will be punish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0 - 150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vice has been superb for the outside world as war has been avo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your advice has not been good for you.  The Gestapo have arrested you and you are never seen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90 – 110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’re not the expert the Nazi party thought you were. You’ve missed many opportunities to expand Germany’s population and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have been demoted but you still have a comfortable life in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6" dur="1" fill="hold"/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0 – 80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ntastic! you have made Germany strong again, the Treaty is a thing of the past and Germany is well prepared in case war 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have been rewarded with promotion in the Nazi party and all the privileges of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6" dur="1" fill="hold"/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 19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hineland 19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 19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zechoslovakia 19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and 19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http://www.spartacus.schoolnet.co.uk/Low1.jpg"/>
          <p:cNvPicPr/>
          <p:nvPr/>
        </p:nvPicPr>
        <p:blipFill>
          <a:blip r:embed="rId1"/>
          <a:stretch/>
        </p:blipFill>
        <p:spPr>
          <a:xfrm>
            <a:off x="5181480" y="205740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7" dur="1" fill="hold"/>
                                  <p:tgtEl>
                                    <p:spTgt spid="19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WordArt 10"/>
          <p:cNvSpPr txBox="1"/>
          <p:nvPr/>
        </p:nvSpPr>
        <p:spPr>
          <a:xfrm rot="5400000">
            <a:off x="201924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WordArt 11"/>
          <p:cNvSpPr txBox="1"/>
          <p:nvPr/>
        </p:nvSpPr>
        <p:spPr>
          <a:xfrm rot="5400000">
            <a:off x="7314840" y="1905120"/>
            <a:ext cx="1600200" cy="20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514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 in the troops. France is divided and Britain wants pe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you can’t risk war with France.  Germany is too w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43400" y="1905120"/>
            <a:ext cx="2362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k permission from the Allies before doing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WordArt 9"/>
          <p:cNvSpPr txBox="1"/>
          <p:nvPr/>
        </p:nvSpPr>
        <p:spPr>
          <a:xfrm rot="5400000">
            <a:off x="438120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0"/>
          <p:cNvSpPr txBox="1"/>
          <p:nvPr/>
        </p:nvSpPr>
        <p:spPr>
          <a:xfrm rot="5400000">
            <a:off x="7200720" y="179064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WordArt 9"/>
          <p:cNvSpPr txBox="1"/>
          <p:nvPr/>
        </p:nvSpPr>
        <p:spPr>
          <a:xfrm rot="5400000">
            <a:off x="720072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Czechoslovakia and hope the army follows your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aten the Czechs and make a deal with Britain and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343400" y="1905120"/>
            <a:ext cx="2362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 a deal with Russia and hope Britain and France ignore your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WordArt 10"/>
          <p:cNvSpPr txBox="1"/>
          <p:nvPr/>
        </p:nvSpPr>
        <p:spPr>
          <a:xfrm rot="5400000">
            <a:off x="476244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WordArt 11"/>
          <p:cNvSpPr txBox="1"/>
          <p:nvPr/>
        </p:nvSpPr>
        <p:spPr>
          <a:xfrm rot="5400000">
            <a:off x="194292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a Deal with Russia to split Poland betwe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p now, you’ve already achieved most of your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34340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Poland without any agreements no-one can stop you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9"/>
          <p:cNvSpPr txBox="1"/>
          <p:nvPr/>
        </p:nvSpPr>
        <p:spPr>
          <a:xfrm rot="5400000">
            <a:off x="476244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9" name="WordArt 10"/>
          <p:cNvSpPr txBox="1"/>
          <p:nvPr/>
        </p:nvSpPr>
        <p:spPr>
          <a:xfrm rot="5400000">
            <a:off x="7200720" y="163800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Did Hitler follow a successful Foreign Policy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the title into your boo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Answer the question as a piece of extende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id Hitler achieve all his a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id Hitler’s policies cause the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id the war ultimately make Germany weak or st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 flipV="1">
            <a:off x="5334120" y="2058480"/>
            <a:ext cx="9144000" cy="41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http://www.spartacus.schoolnet.co.uk/GERhitler2.JPG"/>
          <p:cNvPicPr/>
          <p:nvPr/>
        </p:nvPicPr>
        <p:blipFill>
          <a:blip r:embed="rId1"/>
          <a:stretch/>
        </p:blipFill>
        <p:spPr>
          <a:xfrm>
            <a:off x="5727600" y="1981080"/>
            <a:ext cx="279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4" dur="3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9" dur="3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5" dur="3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1" dur="3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7" dur="3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1" dur="1" fill="hold"/>
                                  <p:tgtEl>
                                    <p:spTgt spid="2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Mein Kampf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policy has very clear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estroy the Treaty of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Gain ‘Lebensraum’ (living space) in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Bring all Germans into one 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Make Germany strong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 flipV="1">
            <a:off x="5334120" y="2058480"/>
            <a:ext cx="9144000" cy="41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http://www.spartacus.schoolnet.co.uk/GERhitler2.JPG"/>
          <p:cNvPicPr/>
          <p:nvPr/>
        </p:nvPicPr>
        <p:blipFill>
          <a:blip r:embed="rId1"/>
          <a:stretch/>
        </p:blipFill>
        <p:spPr>
          <a:xfrm>
            <a:off x="5727600" y="1981080"/>
            <a:ext cx="279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3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3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4495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epression has made Austria w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ing over Austria will be very popular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ill bring many Germans into the 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 other countries might oppos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http://www.spartacus.schoolnet.co.uk/2WWgermanA.jpg"/>
          <p:cNvPicPr/>
          <p:nvPr/>
        </p:nvPicPr>
        <p:blipFill>
          <a:blip r:embed="rId1"/>
          <a:stretch/>
        </p:blipFill>
        <p:spPr>
          <a:xfrm>
            <a:off x="6781680" y="3124080"/>
            <a:ext cx="2054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aly has invaded Ethi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league of Nations is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League is divided you could send troops to the Rhine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careful! Any opposition and you’ll have to with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http://www.spartacus.schoolnet.co.uk/ENCgermany.JPG"/>
          <p:cNvPicPr/>
          <p:nvPr/>
        </p:nvPicPr>
        <p:blipFill>
          <a:blip r:embed="rId1"/>
          <a:stretch/>
        </p:blipFill>
        <p:spPr>
          <a:xfrm>
            <a:off x="6629400" y="2514600"/>
            <a:ext cx="24796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514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 in the troops. France is divided and Britain wants pe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you can’t risk war with France.  Germany is too w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343400" y="1905120"/>
            <a:ext cx="2362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k permission from the Allies before doing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7T11:02:56Z</dcterms:created>
  <dc:creator>Rotherham M.B.C. </dc:creator>
  <dc:description/>
  <dc:language>en-US</dc:language>
  <cp:lastModifiedBy>.</cp:lastModifiedBy>
  <dcterms:modified xsi:type="dcterms:W3CDTF">2010-03-12T08:33:45Z</dcterms:modified>
  <cp:revision>18</cp:revision>
  <dc:subject/>
  <dc:title>German Foreign Policy</dc:title>
</cp:coreProperties>
</file>